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5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7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1A5E-6A72-45C3-8BD5-872A554486C7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スライド番号プレースホル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EF16-E43E-4164-9DB3-CF5F869DC791}" type="slidenum">
              <a:rPr b="0" lang="ja-JP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3FC5-4F18-4AD6-AC29-636FCD3A3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389A-52E8-40C1-ABA1-0F665DB7E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D481-4C93-4996-BD27-27A3F87E3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4A761-09F8-4540-82B6-F1ABE605C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9A74-1A52-4A1A-A1A0-25C1C42EA9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F13D5-52A5-4422-98F3-CFCA98BFE7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E03B-5806-4AC5-B05A-D8F61D3758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FB1C-F67C-45A6-B0DE-EAA84495DD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9CDED-B5FA-43A2-B789-8A85C82A4D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5292-773F-4AC7-B8C0-8636D0BA79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34BD-E89C-4D0A-992F-0B5494ED7E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8C8B-11B2-4EBD-B732-B3A2960DE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A583-8A8F-4022-B37C-04E23572B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D2F3-C489-467E-AAE4-9A83887F23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E6FB-60C4-4671-8B4C-517BBEE608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E04F-0CAD-4BC6-BFEC-C769468BD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C86A-5E94-4188-8988-A88AE0CC00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589-F932-4C83-80C8-8080B5C10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FF7-78C3-4C49-8BB7-0462C59B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D98-6D08-461C-9B20-26349D3C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C26-3238-4D87-8022-602CAD67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C8A6-4152-4D94-9F18-ADDD38E7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5803-5CBA-4DF6-B21E-41BABF30AB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B297-D3BF-420E-9922-38CD3835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3AD-5411-4D3B-8A40-82EC0FB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EB9-0FDC-48AB-8DFB-290F23C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76D-97AA-4E87-9768-7352B3B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871-2B40-42CC-91A8-D878E8CD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1D8-9655-4996-B63F-54ACC248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7988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53840" y="106056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062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7988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53840" y="3870000"/>
            <a:ext cx="28317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0FD-A05C-4D13-A4E2-138526A891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0F45-0314-4688-A434-819FB0508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279D-D891-417B-B105-18C7DCE3D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920" y="185760"/>
            <a:ext cx="7683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1B02-80B4-4F98-9D6A-88BC54BC5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5197-A7B1-4194-8F82-C5473E25B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387000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7D32-F49C-4C26-8785-7B3044DC7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628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1060560"/>
            <a:ext cx="429156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06280" y="3870000"/>
            <a:ext cx="87948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C3FA-ACEF-4BFC-9B64-F665521C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AACF-DB30-4327-9449-C5DFC75C8423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テキスト ボックス 9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3230640" y="4413240"/>
            <a:ext cx="2800440" cy="1924200"/>
          </a:xfrm>
          <a:prstGeom prst="rect">
            <a:avLst/>
          </a:prstGeom>
          <a:ln w="0">
            <a:noFill/>
          </a:ln>
        </p:spPr>
      </p:pic>
      <p:pic>
        <p:nvPicPr>
          <p:cNvPr id="47" name="図 15" descr=""/>
          <p:cNvPicPr/>
          <p:nvPr/>
        </p:nvPicPr>
        <p:blipFill>
          <a:blip r:embed="rId3"/>
          <a:stretch/>
        </p:blipFill>
        <p:spPr>
          <a:xfrm>
            <a:off x="6746760" y="6526080"/>
            <a:ext cx="1792440" cy="281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4C5A-1907-4D8E-9C97-0AA4F61CBC90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角丸四角形 10"/>
          <p:cNvSpPr/>
          <p:nvPr/>
        </p:nvSpPr>
        <p:spPr>
          <a:xfrm>
            <a:off x="206280" y="871560"/>
            <a:ext cx="7704360" cy="7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bd1b8"/>
              </a:gs>
              <a:gs pos="100000">
                <a:srgbClr val="f3f0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C:\Documents and Settings\hiroyuki.watanabe\My Documents\UMLロボコン\2010\ロゴ\100528ETRC2010新ロゴ1.0\ETRC2010-logo\ETrobot_logo-4C-S.jpg"/>
          <p:cNvPicPr/>
          <p:nvPr/>
        </p:nvPicPr>
        <p:blipFill>
          <a:blip r:embed="rId2"/>
          <a:stretch/>
        </p:blipFill>
        <p:spPr>
          <a:xfrm>
            <a:off x="7967520" y="128520"/>
            <a:ext cx="1078200" cy="743040"/>
          </a:xfrm>
          <a:prstGeom prst="rect">
            <a:avLst/>
          </a:prstGeom>
          <a:ln w="0">
            <a:noFill/>
          </a:ln>
        </p:spPr>
      </p:pic>
      <p:sp>
        <p:nvSpPr>
          <p:cNvPr id="89" name="テキスト ボックス 12"/>
          <p:cNvSpPr/>
          <p:nvPr/>
        </p:nvSpPr>
        <p:spPr>
          <a:xfrm>
            <a:off x="471960" y="6562800"/>
            <a:ext cx="253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2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実施説明会資料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ロボコン実行委員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9067680" y="0"/>
            <a:ext cx="76320" cy="6858000"/>
          </a:xfrm>
          <a:prstGeom prst="rect">
            <a:avLst/>
          </a:prstGeom>
          <a:solidFill>
            <a:srgbClr val="9f2936"/>
          </a:solidFill>
          <a:ln w="9360">
            <a:solidFill>
              <a:srgbClr val="baa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図 1" descr=""/>
          <p:cNvPicPr/>
          <p:nvPr/>
        </p:nvPicPr>
        <p:blipFill>
          <a:blip r:embed="rId3"/>
          <a:stretch/>
        </p:blipFill>
        <p:spPr>
          <a:xfrm>
            <a:off x="6684840" y="6523200"/>
            <a:ext cx="1822680" cy="285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メイリオ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2" marL="11430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3" marL="1600200" indent="-228600"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4" marL="2057400" indent="-228600">
              <a:spcBef>
                <a:spcPts val="70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メイリオ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3"/>
          </p:nvPr>
        </p:nvSpPr>
        <p:spPr>
          <a:xfrm>
            <a:off x="8572680" y="6535440"/>
            <a:ext cx="4759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6D12-19F4-452C-9169-3837998C5455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4"/>
          </p:nvPr>
        </p:nvSpPr>
        <p:spPr>
          <a:xfrm>
            <a:off x="63360" y="6586560"/>
            <a:ext cx="10447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E52-42E3-46B6-BA88-DF060E9AAD81}" type="datetime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554-39BE-4EE6-882E-3ADA197AFE1C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B213-B8EE-4144-9E99-D6F74FA9F29F}" type="slidenum">
              <a:rPr b="0" lang="ja-JP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1080" y="622440"/>
            <a:ext cx="83916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0" lang="ja-JP" sz="28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0" lang="en-US" sz="2800" spc="-1" strike="noStrike">
                <a:solidFill>
                  <a:srgbClr val="323232"/>
                </a:solidFill>
                <a:latin typeface="メイリオ"/>
              </a:rPr>
              <a:t>2012</a:t>
            </a:r>
            <a:br>
              <a:rPr sz="2400"/>
            </a:b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ET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ロボコン</a:t>
            </a:r>
            <a:r>
              <a:rPr b="1" lang="en-US" sz="4000" spc="-1" strike="noStrike">
                <a:solidFill>
                  <a:srgbClr val="323232"/>
                </a:solidFill>
                <a:latin typeface="メイリオ"/>
              </a:rPr>
              <a:t>2012</a:t>
            </a: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　競技内容</a:t>
            </a:r>
            <a:br>
              <a:rPr sz="4000"/>
            </a:br>
            <a:r>
              <a:rPr b="1" lang="ja-JP" sz="4000" spc="-1" strike="noStrike">
                <a:solidFill>
                  <a:srgbClr val="323232"/>
                </a:solidFill>
                <a:latin typeface="メイリオ"/>
              </a:rPr>
              <a:t>（走行体、開発環境）</a:t>
            </a:r>
            <a:endParaRPr b="0" lang="en-US" sz="40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倒立振子制御は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ライブラリとして提供 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制御工学の知識が無くても走行させられます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機能を確認することができるサンプルプログラムも提供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nxtOSEK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動車業界等で使用されている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SEK RTOS (TOPPERS/ATK1)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/JSP, TOPPERS/ASP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ご存知、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TOPPER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プロジェクト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μITRON 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搭載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TOS (C/C++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開発支援スポンサー：アップウィンドテクノロジー・インコーポレイテッド様の</a:t>
            </a: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RTOS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製品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JOS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Java)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銀河系はね馬チーム（株式会社ジャコム）が倒立振子制御ライブラリを移植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GP創英角ｺﾞｼｯｸUB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上記以外の開発環境で参加したい場合は、申込み前に要相談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開発環境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95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011D-6AA6-444C-BD52-314AC10A5223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C0F1-E8AB-46D7-B864-825BADC5F174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1000" y="2276280"/>
            <a:ext cx="8729640" cy="32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基本的な競技内容は継続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シック・ステージとボーナス・ステージの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ジ制も継続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ボーナス・ステージの難所は変更を検討中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難所を継続する可能性もあり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は必須　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or 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採用時ボーナス付与とする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出現した尻尾走行は禁止しない。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45" name="テキスト ボックス 4"/>
          <p:cNvSpPr/>
          <p:nvPr/>
        </p:nvSpPr>
        <p:spPr>
          <a:xfrm>
            <a:off x="304920" y="1028880"/>
            <a:ext cx="8578800" cy="1191240"/>
          </a:xfrm>
          <a:prstGeom prst="rect">
            <a:avLst/>
          </a:prstGeom>
          <a:solidFill>
            <a:srgbClr val="89c3e5"/>
          </a:solidFill>
          <a:ln w="9360">
            <a:solidFill>
              <a:srgbClr val="1442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競技規約は、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競技規約を</a:t>
            </a: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ベースに内容変更する（詳細検討中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5"/>
          <p:cNvSpPr/>
          <p:nvPr/>
        </p:nvSpPr>
        <p:spPr>
          <a:xfrm>
            <a:off x="660240" y="5607000"/>
            <a:ext cx="78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の競技規約は、</a:t>
            </a:r>
            <a:r>
              <a:rPr b="0" lang="en-US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4</a:t>
            </a:r>
            <a:r>
              <a:rPr b="0" lang="ja-JP" sz="24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月中旬に公開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465360" y="1197000"/>
            <a:ext cx="2416320" cy="3709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49" name="四角形吹き出し 10"/>
          <p:cNvSpPr/>
          <p:nvPr/>
        </p:nvSpPr>
        <p:spPr>
          <a:xfrm>
            <a:off x="6369120" y="3154320"/>
            <a:ext cx="1714320" cy="571680"/>
          </a:xfrm>
          <a:prstGeom prst="wedgeRectCallout">
            <a:avLst>
              <a:gd name="adj1" fmla="val -86412"/>
              <a:gd name="adj2" fmla="val 13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左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四角形吹き出し 11"/>
          <p:cNvSpPr/>
          <p:nvPr/>
        </p:nvSpPr>
        <p:spPr>
          <a:xfrm>
            <a:off x="1225440" y="3794040"/>
            <a:ext cx="1714680" cy="571680"/>
          </a:xfrm>
          <a:prstGeom prst="wedgeRectCallout">
            <a:avLst>
              <a:gd name="adj1" fmla="val 97231"/>
              <a:gd name="adj2" fmla="val -51180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右輪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四角形吹き出し 12"/>
          <p:cNvSpPr/>
          <p:nvPr/>
        </p:nvSpPr>
        <p:spPr>
          <a:xfrm>
            <a:off x="5611680" y="1149480"/>
            <a:ext cx="1486080" cy="568080"/>
          </a:xfrm>
          <a:prstGeom prst="wedgeRectCallout">
            <a:avLst>
              <a:gd name="adj1" fmla="val -68421"/>
              <a:gd name="adj2" fmla="val 73467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タッチ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四角形吹き出し 13"/>
          <p:cNvSpPr/>
          <p:nvPr/>
        </p:nvSpPr>
        <p:spPr>
          <a:xfrm>
            <a:off x="685800" y="2017800"/>
            <a:ext cx="1771560" cy="555480"/>
          </a:xfrm>
          <a:prstGeom prst="wedgeRectCallout">
            <a:avLst>
              <a:gd name="adj1" fmla="val 138101"/>
              <a:gd name="adj2" fmla="val 6110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ジャイロ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四角形吹き出し 14"/>
          <p:cNvSpPr/>
          <p:nvPr/>
        </p:nvSpPr>
        <p:spPr>
          <a:xfrm>
            <a:off x="6143760" y="4214880"/>
            <a:ext cx="1485720" cy="568080"/>
          </a:xfrm>
          <a:prstGeom prst="wedgeRectCallout">
            <a:avLst>
              <a:gd name="adj1" fmla="val -123467"/>
              <a:gd name="adj2" fmla="val -3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光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324000" y="4924440"/>
            <a:ext cx="86439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入力：　光センサ、ジャイロセンサ、超音波センサ、タッチ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　　モータ（ロータリーエンコーダ値）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出力：　右輪駆動モータ、左輪駆動モータ、尻尾駆動モー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マイコン上のプログラムによる自律制御（ライントレー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四角形吹き出し 16"/>
          <p:cNvSpPr/>
          <p:nvPr/>
        </p:nvSpPr>
        <p:spPr>
          <a:xfrm>
            <a:off x="6578640" y="2055960"/>
            <a:ext cx="1714320" cy="714240"/>
          </a:xfrm>
          <a:prstGeom prst="wedgeRectCallout">
            <a:avLst>
              <a:gd name="adj1" fmla="val -123231"/>
              <a:gd name="adj2" fmla="val 7995"/>
            </a:avLst>
          </a:prstGeom>
          <a:solidFill>
            <a:srgbClr val="ffcccc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マイコン搭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1712-EA5E-4263-90AE-1C7933A0D682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四角形吹き出し 17"/>
          <p:cNvSpPr/>
          <p:nvPr/>
        </p:nvSpPr>
        <p:spPr>
          <a:xfrm>
            <a:off x="754200" y="2776680"/>
            <a:ext cx="1714320" cy="571320"/>
          </a:xfrm>
          <a:prstGeom prst="wedgeRectCallout">
            <a:avLst>
              <a:gd name="adj1" fmla="val 119995"/>
              <a:gd name="adj2" fmla="val 13208"/>
            </a:avLst>
          </a:prstGeom>
          <a:solidFill>
            <a:srgbClr val="ccecff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尻尾駆動モ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四角形吹き出し 18"/>
          <p:cNvSpPr/>
          <p:nvPr/>
        </p:nvSpPr>
        <p:spPr>
          <a:xfrm>
            <a:off x="1305000" y="1044720"/>
            <a:ext cx="1941480" cy="569880"/>
          </a:xfrm>
          <a:prstGeom prst="wedgeRectCallout">
            <a:avLst>
              <a:gd name="adj1" fmla="val 102939"/>
              <a:gd name="adj2" fmla="val -20476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超音波セン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コー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3720" y="1214280"/>
            <a:ext cx="744876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四角形吹き出し 4"/>
          <p:cNvSpPr/>
          <p:nvPr/>
        </p:nvSpPr>
        <p:spPr>
          <a:xfrm>
            <a:off x="5487840" y="1962000"/>
            <a:ext cx="1224000" cy="401760"/>
          </a:xfrm>
          <a:prstGeom prst="wedgeRectCallout">
            <a:avLst>
              <a:gd name="adj1" fmla="val -84111"/>
              <a:gd name="adj2" fmla="val 6254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四角形吹き出し 5"/>
          <p:cNvSpPr/>
          <p:nvPr/>
        </p:nvSpPr>
        <p:spPr>
          <a:xfrm>
            <a:off x="5803920" y="3479760"/>
            <a:ext cx="1008000" cy="430200"/>
          </a:xfrm>
          <a:prstGeom prst="wedgeRectCallout">
            <a:avLst>
              <a:gd name="adj1" fmla="val -84541"/>
              <a:gd name="adj2" fmla="val -7686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四角形吹き出し 9"/>
          <p:cNvSpPr/>
          <p:nvPr/>
        </p:nvSpPr>
        <p:spPr>
          <a:xfrm>
            <a:off x="7743960" y="4849920"/>
            <a:ext cx="1187280" cy="503280"/>
          </a:xfrm>
          <a:prstGeom prst="wedgeRectCallout">
            <a:avLst>
              <a:gd name="adj1" fmla="val -104680"/>
              <a:gd name="adj2" fmla="val 24912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四角形吹き出し 10"/>
          <p:cNvSpPr/>
          <p:nvPr/>
        </p:nvSpPr>
        <p:spPr>
          <a:xfrm>
            <a:off x="5732640" y="6076800"/>
            <a:ext cx="2842920" cy="390600"/>
          </a:xfrm>
          <a:prstGeom prst="wedgeRectCallout">
            <a:avLst>
              <a:gd name="adj1" fmla="val -66726"/>
              <a:gd name="adj2" fmla="val -85143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四角形吹き出し 11"/>
          <p:cNvSpPr/>
          <p:nvPr/>
        </p:nvSpPr>
        <p:spPr>
          <a:xfrm>
            <a:off x="2563920" y="6070680"/>
            <a:ext cx="1187280" cy="387360"/>
          </a:xfrm>
          <a:prstGeom prst="wedgeRectCallout">
            <a:avLst>
              <a:gd name="adj1" fmla="val 106412"/>
              <a:gd name="adj2" fmla="val -26870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ゴ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四角形吹き出し 12"/>
          <p:cNvSpPr/>
          <p:nvPr/>
        </p:nvSpPr>
        <p:spPr>
          <a:xfrm>
            <a:off x="8264520" y="1022400"/>
            <a:ext cx="431640" cy="1224000"/>
          </a:xfrm>
          <a:prstGeom prst="wedgeRectCallout">
            <a:avLst>
              <a:gd name="adj1" fmla="val -126467"/>
              <a:gd name="adj2" fmla="val -149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スタ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1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6771-D615-4D51-B129-67776F0EEDC0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四角形吹き出し 13"/>
          <p:cNvSpPr/>
          <p:nvPr/>
        </p:nvSpPr>
        <p:spPr>
          <a:xfrm>
            <a:off x="8250120" y="2397240"/>
            <a:ext cx="432000" cy="1996920"/>
          </a:xfrm>
          <a:prstGeom prst="wedgeRectCallout">
            <a:avLst>
              <a:gd name="adj1" fmla="val -160037"/>
              <a:gd name="adj2" fmla="val -47495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ガレージ・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四角形吹き出し 14"/>
          <p:cNvSpPr/>
          <p:nvPr/>
        </p:nvSpPr>
        <p:spPr>
          <a:xfrm>
            <a:off x="1325520" y="993600"/>
            <a:ext cx="1224000" cy="419400"/>
          </a:xfrm>
          <a:prstGeom prst="wedgeRectCallout">
            <a:avLst>
              <a:gd name="adj1" fmla="val 177370"/>
              <a:gd name="adj2" fmla="val 121101"/>
            </a:avLst>
          </a:prstGeom>
          <a:solidFill>
            <a:srgbClr val="ffff9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坂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1116000"/>
            <a:ext cx="46069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3960720" y="3852720"/>
            <a:ext cx="4384800" cy="2519640"/>
          </a:xfrm>
          <a:prstGeom prst="rect">
            <a:avLst/>
          </a:prstGeom>
          <a:ln w="0">
            <a:noFill/>
          </a:ln>
        </p:spPr>
      </p:pic>
      <p:sp>
        <p:nvSpPr>
          <p:cNvPr id="172" name="テキスト ボックス 5"/>
          <p:cNvSpPr/>
          <p:nvPr/>
        </p:nvSpPr>
        <p:spPr>
          <a:xfrm>
            <a:off x="5497560" y="15559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シーソ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2843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階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75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F7BE-DA04-4325-A30E-9CD422BE7FD9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テキスト ボックス 5"/>
          <p:cNvSpPr/>
          <p:nvPr/>
        </p:nvSpPr>
        <p:spPr>
          <a:xfrm>
            <a:off x="4587840" y="13208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ルックアップゲ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テキスト ボックス 6"/>
          <p:cNvSpPr/>
          <p:nvPr/>
        </p:nvSpPr>
        <p:spPr>
          <a:xfrm>
            <a:off x="4067280" y="53737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相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743280" cy="2822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576760" y="3376440"/>
            <a:ext cx="2595600" cy="315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難所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1" name="スライド番号プレースホルダ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48F-51D3-4951-B26C-70DB33A64866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参考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】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　競技内容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1223640"/>
            <a:ext cx="8572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チームがインコース／アウトコースをそれぞれ１周し、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合計タイム（リザルトタイム）を競う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2800" spc="-1" strike="noStrike">
                <a:solidFill>
                  <a:srgbClr val="c00000"/>
                </a:solidFill>
                <a:latin typeface="HGP創英角ｺﾞｼｯｸUB"/>
                <a:ea typeface="HGP創英角ｺﾞｼｯｸUB"/>
              </a:rPr>
              <a:t>リザルトタイム ＝ 走行タイム（実測値） ー ボーナスタイム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6280" y="2981160"/>
          <a:ext cx="8721720" cy="3413160"/>
        </p:xfrm>
        <a:graphic>
          <a:graphicData uri="http://schemas.openxmlformats.org/drawingml/2006/table">
            <a:tbl>
              <a:tblPr/>
              <a:tblGrid>
                <a:gridCol w="3318120"/>
                <a:gridCol w="2112840"/>
                <a:gridCol w="3290760"/>
              </a:tblGrid>
              <a:tr h="42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対象（難所クリア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ボーナスタイ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ffffff"/>
                          </a:solidFill>
                          <a:latin typeface="HGP創英角ｺﾞｼｯｸUB"/>
                          <a:ea typeface="HGP創英角ｺﾞｼｯｸUB"/>
                        </a:rPr>
                        <a:t>備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587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ルックアップゲート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出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ET</a:t>
                      </a: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相撲（押し倒し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アウト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シング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シーソー通過（ダブル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２０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階段通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１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インコース競技者の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c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ガレージ・イン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200" spc="-1" strike="noStrike">
                          <a:solidFill>
                            <a:srgbClr val="000000"/>
                          </a:solidFill>
                          <a:latin typeface="HGP創英角ｺﾞｼｯｸUB"/>
                          <a:ea typeface="HGP創英角ｺﾞｼｯｸUB"/>
                        </a:rPr>
                        <a:t>５秒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1d7"/>
                    </a:solidFill>
                  </a:tcPr>
                </a:tc>
              </a:tr>
            </a:tbl>
          </a:graphicData>
        </a:graphic>
      </p:graphicFrame>
      <p:sp>
        <p:nvSpPr>
          <p:cNvPr id="185" name="Rectangle 7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867E-11F4-4914-88A6-88749C07ECB1}" type="slidenum">
              <a:rPr b="0" lang="en-US" sz="1400" spc="-1" strike="noStrike">
                <a:solidFill>
                  <a:srgbClr val="7f7f7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06280" y="1060560"/>
            <a:ext cx="879480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ライントレースロボット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LEG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MINDSTORM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®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NXT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ARM7 32bit CPU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光センサ、タッチセンサ、ジャイロセンサ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超音波センサ搭載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ンコーダ内蔵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C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モータ駆動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用の尻尾モータを追加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Bluetooth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通信</a:t>
            </a: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1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  <p:sp>
        <p:nvSpPr>
          <p:cNvPr id="188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209F-E408-481C-8340-7A3810B832A7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6573960" y="1428840"/>
            <a:ext cx="218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06280" y="1060200"/>
            <a:ext cx="879480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尻尾走行の出現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全自律停止状態を実現するために尻尾を追加したが、尻尾を降ろした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点接地状態での走行が出現！しかも速い！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では尻尾走行を禁止しない（速さは魅力）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二輪倒立振子制御が必要になるエリア／難所を設定する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2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走行体は、</a:t>
            </a: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2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から変更しない方針</a:t>
            </a:r>
            <a:endParaRPr b="0" lang="en-US" sz="28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二輪倒立振子型／尻尾走行型のトランスフォーマー走行体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ただし、尻尾走行時のコースマットとの摩擦軽減のため、尻尾形状などのマイナー変更を検討中。</a:t>
            </a: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1" name="スライド番号プレースホルダ 3"/>
          <p:cNvSpPr/>
          <p:nvPr/>
        </p:nvSpPr>
        <p:spPr>
          <a:xfrm>
            <a:off x="8572680" y="6535800"/>
            <a:ext cx="47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B91C-5664-4736-9779-04B0CE287365}" type="slidenum">
              <a:rPr b="0" lang="ja-JP" sz="1400" spc="-1" strike="noStrike">
                <a:solidFill>
                  <a:srgbClr val="7f7f7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05920" y="185760"/>
            <a:ext cx="76834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ET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ロボコン</a:t>
            </a:r>
            <a:r>
              <a:rPr b="0" lang="en-US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2012 </a:t>
            </a:r>
            <a:r>
              <a:rPr b="0" lang="ja-JP" sz="3200" spc="-1" strike="noStrike">
                <a:solidFill>
                  <a:srgbClr val="323232"/>
                </a:solidFill>
                <a:latin typeface="HGP創英角ｺﾞｼｯｸUB"/>
                <a:ea typeface="HGP創英角ｺﾞｼｯｸUB"/>
              </a:rPr>
              <a:t>走行体</a:t>
            </a:r>
            <a:endParaRPr b="0" lang="en-US" sz="3200" spc="-1" strike="noStrike">
              <a:solidFill>
                <a:srgbClr val="323232"/>
              </a:solidFill>
              <a:latin typeface="メイリオ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7:17:52Z</dcterms:created>
  <dc:creator>watanabe</dc:creator>
  <dc:description/>
  <dc:language>en-US</dc:language>
  <cp:lastModifiedBy>Natsumi Horii</cp:lastModifiedBy>
  <cp:lastPrinted>2012-02-15T10:47:20Z</cp:lastPrinted>
  <dcterms:modified xsi:type="dcterms:W3CDTF">2012-02-16T02:22:11Z</dcterms:modified>
  <cp:revision>458</cp:revision>
  <dc:subject/>
  <dc:title>ETロボコン公式教材 （その１） モデルの描き方トレーニング</dc:title>
</cp:coreProperties>
</file>